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BB8-FC85-4AF3-A1C3-8101F986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09E2-2CD9-4BA2-9FE6-EF4D8640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558-E022-43B4-AC14-895E5DD3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C99-AE6F-4642-92A7-64824910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FBEB-4229-400E-99FE-FD1DF9E2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E595-884C-4168-B5AD-1E0BF840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93DD-384D-42AE-BF96-688CA792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AA64-6374-4D3D-899D-BCFA7ECA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56C2-2FB5-4A2E-8D07-08E50714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1FC9-2F16-45CE-9230-24082EC1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8E48-4699-4898-B37B-19D88FA4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097-4298-4628-901C-C495475E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5CC7-80DB-45A8-B239-8D348174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2FD9-FBA3-4FA2-99ED-C47BF26F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7166-FA79-465C-8E59-A3D7230E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370A-489B-4AC9-A4D9-7997C122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B5B7-4F47-4B05-A4E9-B6982710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8EABB-4D7D-4316-A46F-F896FF6B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B3C5-C086-45B0-BE80-1E89F1C3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22EF0-FDF0-453D-95F5-840A8168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CFB28-0E7B-4EDE-B855-07DFDA36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04D54-F101-4C05-8D13-7F52DCE8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EAB-5731-4E35-8CC3-EB118AA6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F03C5-FD31-43B4-8660-C2733EF4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05C88-EB24-4C72-B6D6-DA0097FF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E768A-CCA6-4136-BB33-4B68013A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76830-4C09-42B0-8771-E6006D8B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E16E6-7AE5-43B9-95A0-FCC9D200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1F2EE-BEBA-47D4-B91F-7F21D654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69B54-3EF4-4044-A139-7C127D8F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A03DC-63F6-4E08-A66C-CBDE1D47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3FC85-87B0-4BC0-8F50-6DDD1853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CBE5E-0488-43CC-89B6-3F0127B6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660-9D72-46A2-A053-3A78D168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B4A74-DE3A-461A-AB38-38C1F93E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D0D93-2BB6-475B-AF4F-F62DB77D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0C0BC-471C-4F4F-8002-E8F92076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E4406-6581-48F3-8D96-46411FF8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E5B14-DCCC-4AC5-B6A9-948DCC2C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71AA1-11BC-45FB-894E-DC48FC6A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DBFC9-15DC-48B9-B58E-22108A4E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A5AB2-DC34-4804-BE33-33ECC872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4C8B-E2A1-4733-A612-56B54FDF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949-010D-4A39-81D4-55D4A091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C86-1EAF-43EC-BD96-0AC1507F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0A5-1B33-4A2B-9061-40AB9D23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851-FF57-47CF-958F-E0263FDF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FDE-E3CD-491A-995F-B323FA8E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863A-D8FC-44E1-A8FF-EB2AEB44249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DA96-EC00-49CB-8598-569BAB2064C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A235-BF1B-4EB6-B078-262FACF79EC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BDDC-0FBC-475D-BBB5-43ABE2D450F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2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Spreadsheet Design Rul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057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iction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For every variable in the spread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ell range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is (Raw Data, Statistical Summary, Calculated Variable, Score etc.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.g. Integer, Text, Currency, Date, etc.) an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escription of the data or what it's 'purpose' is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Open Data Dictionary sheet in Sample work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CAAA-66A9-449B-906A-E965E8F2EA8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Data Dictionar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AD00-AC5A-4BA9-86F8-E4FCBD32916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609480" y="579132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Arial"/>
              </a:rPr>
              <a:t>Exercise: Complete the previous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3520" y="1981080"/>
          <a:ext cx="8001000" cy="3581640"/>
        </p:xfrm>
        <a:graphic>
          <a:graphicData uri="http://schemas.openxmlformats.org/drawingml/2006/table">
            <a:tbl>
              <a:tblPr/>
              <a:tblGrid>
                <a:gridCol w="1066680"/>
                <a:gridCol w="2171880"/>
                <a:gridCol w="1028520"/>
                <a:gridCol w="914400"/>
                <a:gridCol w="2819520"/>
              </a:tblGrid>
              <a:tr h="349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!A1:A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of Ele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!B1:B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sitting presid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!C1:C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eForIncumb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vote for incumb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DIsposable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Advan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!A2:A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1PredictionsforIncumbentAdvan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 Advantage as predicted by Mode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1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 between predicted advantage in model 1 and the true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1 Erro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 squared for model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!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Error Square for Model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Square Error for Model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93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w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Present your raw data in tabular form --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s representing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s representing c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A2D0-842A-4DF7-87F2-5C2A1958134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838080" y="2819520"/>
          <a:ext cx="7467840" cy="3281400"/>
        </p:xfrm>
        <a:graphic>
          <a:graphicData uri="http://schemas.openxmlformats.org/drawingml/2006/table">
            <a:tbl>
              <a:tblPr/>
              <a:tblGrid>
                <a:gridCol w="717840"/>
                <a:gridCol w="1106280"/>
                <a:gridCol w="2065320"/>
                <a:gridCol w="1962360"/>
                <a:gridCol w="1616040"/>
              </a:tblGrid>
              <a:tr h="436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eForIncumb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DIsposableI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Ad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senhow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phr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93464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d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Statistic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d variab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070D-730A-4A97-B556-002D67AB897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3124080"/>
          <a:ext cx="7619760" cy="2897280"/>
        </p:xfrm>
        <a:graphic>
          <a:graphicData uri="http://schemas.openxmlformats.org/drawingml/2006/table">
            <a:tbl>
              <a:tblPr/>
              <a:tblGrid>
                <a:gridCol w="3886200"/>
                <a:gridCol w="1371600"/>
                <a:gridCol w="23619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1PredictionsforIncumbentAd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1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1 Error 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50019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8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9277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6653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3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34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5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3415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7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78958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52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2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499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Error 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76452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93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porting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7C56-806D-4CD3-8762-901D0204A11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58831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nother model (model2) for predicting vote for Incumbent  based on the formu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eForIncumbent = 2.4283(ChangeDisposableIncome) + 46.567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appropriate changes i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predicted value, error, error squared, mean square error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ictionary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descriptions of the new variables to the data dictionary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and Assumption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new formula and an explanation to i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39D3-E261-4E4B-AF81-DE446496AA2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(cont.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your name, Date, and what changes you mad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the chart for Predicted value for vote in Model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nt: you can copy and paste the chart of model 1. Then, you would have to change the Data series, axis titles, and chart tit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 statement that summaries your conclusion about each char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914C-B71E-4A77-B57B-28AFD988FFC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B2B5-681B-4665-B375-FBA6FB30E4C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3915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ortant No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Misconduc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D1F8-78FC-44EB-B51B-0538650D644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als for To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e visual el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Familiar with basic design ru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CD5A-D999-4772-A91F-ACD75C2F932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sic skills you will ne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ference a cell D2 in another sheet e.g.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!$D$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ference a range D2:D9 in another sheet e.g.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!$D$2:$D$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keyboard shortcu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: ctrl + 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: ctrl + x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: ctrl +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ll: ctrl+ 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o: ctrl + 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: ctrl + 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AED9-E4EB-4E13-915A-5CE77B4453F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sic Design R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5000"/>
            <a:ext cx="8229600" cy="47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spreadsheet on paper fir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edit your calculation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components of a calculation visi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: The reader should not go over the cell to know the number you multiplied b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889E-1D1E-427F-BA9B-6E657247B86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sic Design Rules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ware of the "space" or "geography" of the spreadsheet. Arrange your information so that it is well spaced and easy to take in at a glan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use as many sheets as you c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give meaningful names to columns, rows, and shee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rap text, shrink to fit, and merge cel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better visualization for tex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0BD9-0D0F-47E0-8113-5D04155D36B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50D1-7FDF-494B-9F95-1442432B63A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295280"/>
          <a:ext cx="8763120" cy="457200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  <a:gridCol w="876600"/>
                <a:gridCol w="876240"/>
                <a:gridCol w="876240"/>
                <a:gridCol w="876240"/>
                <a:gridCol w="876240"/>
                <a:gridCol w="876240"/>
                <a:gridCol w="876600"/>
                <a:gridCol w="876240"/>
              </a:tblGrid>
              <a:tr h="1122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umb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teForIncumb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DIsposableI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umbentAd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1PredictionsforIncumbentAd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 1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 1 Error 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2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8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392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senhow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5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266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03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34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5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34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phr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7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7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2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4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Error Square for Mode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76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52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What is this spreadsheet or workbook abou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Open Introduction sheet in Sample work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D1AE-9D11-4058-9037-391F88002DE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5800" y="2357280"/>
          <a:ext cx="7543800" cy="4043520"/>
        </p:xfrm>
        <a:graphic>
          <a:graphicData uri="http://schemas.openxmlformats.org/drawingml/2006/table">
            <a:tbl>
              <a:tblPr/>
              <a:tblGrid>
                <a:gridCol w="1122480"/>
                <a:gridCol w="583920"/>
                <a:gridCol w="582840"/>
                <a:gridCol w="584280"/>
                <a:gridCol w="583920"/>
                <a:gridCol w="584280"/>
                <a:gridCol w="582840"/>
                <a:gridCol w="583920"/>
                <a:gridCol w="584280"/>
                <a:gridCol w="584280"/>
                <a:gridCol w="582480"/>
                <a:gridCol w="584280"/>
              </a:tblGrid>
              <a:tr h="274680">
                <a:tc gridSpan="5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: Political Control of the Econo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11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spreadsheet is based on a Data Set by Edward R Tufte gathered from U.S. Presidential elections between 198 and 1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Tufte's data we look at Incumbent Advantage in terms of Change in Real Disposable 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Political Control of the Econom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Edward, R. Tuf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eton University Press, 19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. 121 to 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ourc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 5.5 from above reference, pp. 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 by Dina Said in Jan 27, 2009 to be used in CPSC 203, week 2-lab 2 as a sample of a well-designed worksh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and Assump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Open ModelAndAssumptions sheet in Sample work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DFEB-DAC2-4D92-A96F-1DD2F6D0976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85800" y="2743200"/>
          <a:ext cx="7086600" cy="3660840"/>
        </p:xfrm>
        <a:graphic>
          <a:graphicData uri="http://schemas.openxmlformats.org/drawingml/2006/table">
            <a:tbl>
              <a:tblPr/>
              <a:tblGrid>
                <a:gridCol w="708120"/>
                <a:gridCol w="709560"/>
                <a:gridCol w="708120"/>
                <a:gridCol w="709560"/>
                <a:gridCol w="708120"/>
                <a:gridCol w="707760"/>
                <a:gridCol w="709560"/>
                <a:gridCol w="708120"/>
                <a:gridCol w="709560"/>
                <a:gridCol w="708120"/>
              </a:tblGrid>
              <a:tr h="2858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&amp; Assum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gridSpan="10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developed a linear Model with" IncumbentAdvantage" as a Function of "ChangeDisposableIncome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Formula i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Advantage = 0.1456ChangeDisposableIncome - 0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R-Squared i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um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ssume a linear Model is Appropri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gridSpan="8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n the dispersion of the data, and low R-Squared -- this assumption may not be 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1-28T06:52:02Z</dcterms:modified>
  <cp:revision>159</cp:revision>
  <dc:subject/>
  <dc:title>CPSC 203</dc:title>
</cp:coreProperties>
</file>